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0B9-75FE-424E-B181-1D08F610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E38-6BA9-4549-843A-5377C537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1D6-8055-4E65-B1DC-B038582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78A-7F4A-4750-9731-044AC81A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B61-A7A6-47E8-BF6C-22EFEF2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5B3-D51E-4F3A-9C54-EE1C9BE4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9B1-4712-4810-A42B-EBE6CBD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167-5732-4556-BE97-0EC8E54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49B-CF27-4B5F-98CC-2E7BFF2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0B5-AEF0-407A-91F5-8B237F6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F3A-82AD-40A8-8A65-32C5692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50C-A06E-4868-8DC8-9CC9534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72A7-8EB5-40FD-8E8B-BA53CACE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ile/Metaph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two unlik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: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: without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is to deepen understanding or mystery of the thing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9144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Nouns: things that cannot be seen, smelled, tasted, or tou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Nouns: things that can be seen, smelled, tasted, or tou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48769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lists together and exp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s / is like / is ___ as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ret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Dreams are like orange popsicles: they melt away and their sweetness is lost for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310068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95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57:56Z</dcterms:created>
  <dc:creator>Administrator</dc:creator>
  <dc:description/>
  <dc:language>en-US</dc:language>
  <cp:lastModifiedBy>Administrator</cp:lastModifiedBy>
  <dcterms:modified xsi:type="dcterms:W3CDTF">2010-09-29T16:49:50Z</dcterms:modified>
  <cp:revision>3</cp:revision>
  <dc:subject/>
  <dc:title>Slide 1</dc:title>
</cp:coreProperties>
</file>